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F79-84E1-4051-9828-18A43255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B05-4E23-4DCB-AB9F-2D02126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445-9FDC-48D0-9420-CB6081D3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AE9-69FD-4B0A-A527-ABE792AF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BAA-D525-43E4-BF32-66508617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CEA-C13C-4601-8AD0-81916BD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886-E63A-46A2-9718-8921FD7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878-47A6-4043-ACB7-8068474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71-760D-4CAE-9280-0E0E17DB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509-0BDC-4C77-9FD0-678312A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391-7109-4B28-9F70-A30528BC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00E-CA1F-4D4C-9027-56169D5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477-1446-4E41-9C6C-FC51459BB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ey &amp; in-kind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in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le drug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rding &amp; Report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1:07:56Z</dcterms:created>
  <dc:creator>Charlotte Colvin</dc:creator>
  <dc:description/>
  <dc:language>en-US</dc:language>
  <cp:lastModifiedBy>Charlotte Colvin</cp:lastModifiedBy>
  <dcterms:modified xsi:type="dcterms:W3CDTF">2005-09-19T18:48:36Z</dcterms:modified>
  <cp:revision>3</cp:revision>
  <dc:subject/>
  <dc:title>MONEY</dc:title>
</cp:coreProperties>
</file>