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79E-40F0-4256-8D78-865224ED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5D7-F6B7-4F67-9888-84513B7D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F17-5DBD-401D-B072-4C8B6ABB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77E-A2B8-4A56-9EE6-D88591AC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5F3E-17D4-427F-9149-8D55172D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A115-4D86-495F-AF60-3D921196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4EC4-8798-4A0C-82AE-A59184CA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FB6B-4CAD-47BF-8359-ED4628DD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E963-0721-410E-9A82-D0A25A40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3259-7428-4AD0-882F-6E398A02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8B9F-6B27-4763-8793-3B0D2B40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07C-2799-497F-8658-A4214A56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F64B-9EE6-49ED-9C46-345C8F74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30E3-5E28-4A90-85BB-B619A0DF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5DF7-C0A6-42C5-A7FA-0645E129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3F41-4456-45E1-8C2C-430195A5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80AB-40B5-4D0F-A735-C9109781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F50-8A2D-45A9-A8A0-527D71DC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2BA-0B50-43B0-BA3A-5EA4D8C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335-D09C-4F53-B7AA-5E650DB2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DF4-F55C-4D1D-928E-F24B91E1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622-AAFE-4281-B1B6-AED93F2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28C-301B-4077-AE00-8645844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338-26E7-4503-8BB0-914441B8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CA96-0011-4720-8412-279F7CEDE4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1A9B-5BFE-4DD9-BEFC-D7237DF273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ility visits –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cussion &amp; Ref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vailabil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data colle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ion and interpre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s &amp; weakn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1:59:04Z</dcterms:created>
  <dc:creator>Charlotte Colvin</dc:creator>
  <dc:description/>
  <dc:language>en-US</dc:language>
  <cp:lastModifiedBy>Charlotte Colvin</cp:lastModifiedBy>
  <dcterms:modified xsi:type="dcterms:W3CDTF">2005-09-18T12:01:42Z</dcterms:modified>
  <cp:revision>3</cp:revision>
  <dc:subject/>
  <dc:title>Slide 1</dc:title>
</cp:coreProperties>
</file>