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1AB3D-BDD1-4DF8-B0F1-06A5CB71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B1E7C-1C1A-49C7-902A-72B8A861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CC41-D20C-4DE6-8598-C14110BF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2B40-5A6C-4210-B568-E6EEDD1F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D877-F487-44E1-8B8C-0ECECDAF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F8CF-B71C-4FE0-B0FB-C3545F48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EA0D-3C79-40E9-8A9D-8F9FC324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F93C-3D1A-4234-AE4B-1AD6202F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4092-C384-4281-85BF-DB213DD3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F0C9-F137-4DA7-BE43-70F9693A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B4E4-2C84-461B-A675-7F471A41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1862C-DB5A-4EC2-8B70-41A5AFF9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3386-C4F4-4024-ABBE-8049D3D6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C485-E9FB-4C05-A08D-782504CA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FED0-3490-49DD-B742-B1B5E467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D93F-6B4B-494E-BA54-AF62C779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B7EE-E05D-4957-BAE1-FA3C5DD8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13C9-103A-4D59-AD00-958758EF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D613-9A1E-4700-B8E3-85A8BACE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C3168-2820-457B-83D1-B68631E6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4C537-D2B3-4728-A467-EA722FD2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AB990-06EA-4B96-B2AD-BF681198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5A4C-04D1-4210-8338-3F539742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0C272-80C4-4BF7-8C11-D3DD6921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253F-86BE-4E18-B07F-498DA73B6B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E22A-A3F5-469C-AA20-70BEFE0FC4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llaborative TB/HIV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laborative TB/HIV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stablish the mechanisms for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ecrease the burden of TB in PLW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ecrease the burden of HIV in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itical commitment, partnerships, and budgetary priority</a:t>
            </a:r>
            <a:r>
              <a:rPr b="1" lang="en-GB" sz="3200" spc="-1" strike="noStrike">
                <a:solidFill>
                  <a:srgbClr val="ffffff"/>
                </a:solidFill>
                <a:latin typeface="Arial-BoldMT"/>
              </a:rPr>
              <a:t> D.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. To establish the mechanisms for collab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.1 A coordinating body for TB/HIV activities that is effective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.2 Surveillance of HIV-prevalence among TB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.3 Joint TB/HIV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.4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able 1. Recommended collaborative TB/HIV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. To decrease the burden of TB in PLW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.1 Intensified TB case-f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.2 Treatment of latent TB-infection (TB preventive thera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.3 TB infection control in health care and congregate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. To decrease the burden of HIV in TB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.1 HIV testing and coun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.2 HIV preven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.3 Co-trimoxazole preventive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.4 HIV/AIDS care a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.5 Antiretrovir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. Political commitment, partnerships and budgetary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.1.1. National TB policy addresses links between TB and 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.1.2. National HIV/AIDS policy address links between TB and 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.2.1.Involvement of range of governmental, NGO, community and private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.3.1.Percentage of total budget required for planned collaborative TB/HIV activities that was actually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up work: Use indicators to collect data and to report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ups 1 and 2: Design an outline report to a minister of health on making progress in collaborative TB/HIV program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ups 3 and 4: Design a data collection form for a collaborative TB/HIV programme at district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olina Population Center</cp:lastModifiedBy>
  <dcterms:modified xsi:type="dcterms:W3CDTF">2006-11-21T16:17:24Z</dcterms:modified>
  <cp:revision>21</cp:revision>
  <dc:subject/>
  <dc:title>PowerPoint Presentation</dc:title>
</cp:coreProperties>
</file>