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3C5F-D1FC-44EB-8066-A88E0FBD4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73E5-EB3A-4A48-AFB4-E82A7200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B41CA-4FF0-4FDB-BD0E-EC6D9B682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9EC25-B671-4D78-A479-A0C85A1A7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01F6B-A934-4535-9871-8B3C82AA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F3C6-6938-4F1E-82BB-7609CEF9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2E6C7-157F-424A-BCF9-16F2152FE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687D2-FA3B-4FB2-8C82-19731A3B9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701A4-4D05-449F-94B7-70D815004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5470-68D2-4474-81EB-8AAF1D087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5ECD0-C8AA-4FDA-923E-761AADB2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826C-B88A-4599-8A01-8646E83FC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0CC4-A3A1-4B67-AE0C-09C4B5373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2" name="PlaceHolder 2"/>
          <p:cNvSpPr>
            <a:spLocks noGrp="1"/>
          </p:cNvSpPr>
          <p:nvPr>
            <p:ph type="subTitle"/>
          </p:nvPr>
        </p:nvSpPr>
        <p:spPr>
          <a:xfrm>
            <a:off x="533160" y="1143000"/>
            <a:ext cx="8305560" cy="502920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data-collection tools – operational level not involv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ubmission and inconsistencies in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human resources, staff turnov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standardized reporting from private sector</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Solutions</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600"/>
            <a:ext cx="838188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these stakeholders in the design of systems to ensure they use them and perform cost-benefit analysis to show policymakers the importance of data use.</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level managers should have better training. They also need to develop a curriculum and build capacity at district level.</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force need for feedback in support and supervision visi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ze needs for use of information, put the data in context, indicator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staff involved in design; too much data is being collec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iad of reporting formats, according to type of services (NGOs, FBOs), periodicity (inconsis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6" name="PlaceHolder 2"/>
          <p:cNvSpPr>
            <a:spLocks noGrp="1"/>
          </p:cNvSpPr>
          <p:nvPr>
            <p:ph type="subTitle"/>
          </p:nvPr>
        </p:nvSpPr>
        <p:spPr>
          <a:xfrm>
            <a:off x="456840" y="1142640"/>
            <a:ext cx="8381880" cy="518148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 lower levels and other stakeholders in design of tools, and include more tool pre-testing at this level</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roper training on M&amp;E and reporting, software to ease data entry and compilation.  Increase awareness of the need for timely reporting. Make sure staff understand why data are needed and how data are used. </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 and increased political commitment and collaboration with NGOs to assist. Include training to address human-resource challenge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data-collection tool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posts (funded!)</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ivate-sector training. Create awareness of NTP policies, supervision of the private sector, and restrict license renewal pending reformed data collection.  Use “sticks and carrots” to enforce reporting by the private s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operational-level staff in the design of for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the various existing reporting forms with one national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Challenges</a:t>
            </a:r>
            <a:endParaRPr b="0" lang="en-US" sz="3200" spc="-1" strike="noStrike">
              <a:solidFill>
                <a:srgbClr val="000000"/>
              </a:solidFill>
              <a:latin typeface="Arial"/>
            </a:endParaRPr>
          </a:p>
        </p:txBody>
      </p:sp>
      <p:sp>
        <p:nvSpPr>
          <p:cNvPr id="50" name="PlaceHolder 2"/>
          <p:cNvSpPr>
            <a:spLocks noGrp="1"/>
          </p:cNvSpPr>
          <p:nvPr>
            <p:ph type="subTitle"/>
          </p:nvPr>
        </p:nvSpPr>
        <p:spPr>
          <a:xfrm>
            <a:off x="38088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 turnover, especially in high-HIV prevalence areas, staff need a lot of train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ness in recording and poor attitudes towards record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inconsistency; cases show up in one register but not the oth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ngulation is not don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i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Solutions</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240"/>
            <a:ext cx="838188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s continuing CMEs, create awareness about the need for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progress-review meetings, including quality of data as a topic to be cover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 supportive super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Challenge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1371240"/>
            <a:ext cx="640080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re only forwarded up to next level, no self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Solutions</a:t>
            </a:r>
            <a:endParaRPr b="0" lang="en-US" sz="3200" spc="-1" strike="noStrike">
              <a:solidFill>
                <a:srgbClr val="000000"/>
              </a:solidFill>
              <a:latin typeface="Arial"/>
            </a:endParaRPr>
          </a:p>
        </p:txBody>
      </p:sp>
      <p:sp>
        <p:nvSpPr>
          <p:cNvPr id="56" name="PlaceHolder 2"/>
          <p:cNvSpPr>
            <a:spLocks noGrp="1"/>
          </p:cNvSpPr>
          <p:nvPr>
            <p:ph type="subTitle"/>
          </p:nvPr>
        </p:nvSpPr>
        <p:spPr>
          <a:xfrm>
            <a:off x="1371600" y="1371600"/>
            <a:ext cx="640080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use of the indicators at facility level as a management t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 Challenges</a:t>
            </a:r>
            <a:endParaRPr b="0" lang="en-US" sz="3200" spc="-1" strike="noStrike">
              <a:solidFill>
                <a:srgbClr val="000000"/>
              </a:solidFill>
              <a:latin typeface="Arial"/>
            </a:endParaRPr>
          </a:p>
        </p:txBody>
      </p:sp>
      <p:sp>
        <p:nvSpPr>
          <p:cNvPr id="58" name="PlaceHolder 2"/>
          <p:cNvSpPr>
            <a:spLocks noGrp="1"/>
          </p:cNvSpPr>
          <p:nvPr>
            <p:ph type="subTitle"/>
          </p:nvPr>
        </p:nvSpPr>
        <p:spPr>
          <a:xfrm>
            <a:off x="45720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re not used by decision-makers.</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lot of training, beyond international courses such as Arush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idity in targe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feed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7:43:19Z</dcterms:created>
  <dc:creator>Charlotte Colvin</dc:creator>
  <dc:description/>
  <dc:language>en-US</dc:language>
  <cp:lastModifiedBy>Carolina Population Center</cp:lastModifiedBy>
  <dcterms:modified xsi:type="dcterms:W3CDTF">2006-11-08T16:40:32Z</dcterms:modified>
  <cp:revision>4</cp:revision>
  <dc:subject/>
  <dc:title>Design of HMIS – Challenges</dc:title>
</cp:coreProperties>
</file>